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6BC-23BE-4555-8934-A0466093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FDF-7A69-4182-8A18-BF6B09D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5EF-C10D-40CF-9144-684009F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E4E-C543-406F-AB0C-D6CF3251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4BC4-67C5-4166-927C-6CA4F2DD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F007-C474-4D34-AE62-5EE5BDF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74C-26CC-417C-B97B-CA2D0FB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CAE2-9123-4C46-B919-60E4A88D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6C45-E933-4F4E-98F9-29E9F0B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BD71-4188-403E-A429-6E8F46C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3D3E-7A2B-4D74-BF74-9D19655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04C-8650-4885-8630-D372B63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88A-35D9-4324-B0DC-72BF28F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8C9-C202-4BE9-AF6B-89EC282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099-0682-4A18-97E5-8F875ECE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5EC-7740-4433-8FD4-D124914F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BD4-4F5C-448A-8C4A-553A6E74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24C6-CAC8-4A1E-9233-7DE8E953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A6FE-56EE-4A76-8FE8-A1E6C434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D2C0-F688-4EB7-B37B-A56A1C39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99D8-E592-4576-96C9-42FFA82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7003-8A85-4805-B5F7-1323370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3A1-C147-43E0-BC6C-E7C84899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83F5-001D-4849-B57F-A660F503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12D6-08C5-48AD-91D5-6094B1C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D63F-7BD8-4C8B-8F1C-8829670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55FE-094F-48EA-AED1-06D986C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8E5A-486F-4B23-ADB8-43FC088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B82B-3FA6-4EFB-B34A-59D754D3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B226-1C7C-4301-9A9E-BA594A3E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F84F-44F0-43F0-93DB-EB65829D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BCEF-40A5-450E-B676-AB3319E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83AD-7148-4A03-8A6F-1AF8B4A7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989-A1EA-4880-9CC1-E23FEBC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FF03-994D-47DD-9526-DCF33616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E96C-8B71-4108-9C5E-4710C51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A404-264B-42FB-B00E-336EF967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9ECA-6581-4405-A1E9-E8566FA1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6BBF-5193-465B-AFFB-438653A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9E2C-99F7-4679-8482-B7FD0CC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1408-9016-4B55-B747-62C49E91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03D4-BF42-4737-826B-C9133BDD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606A-104E-4396-AC74-D26EFBB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F517-EF84-4929-846E-9F0C366F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8A6-0CD3-40D0-8659-A3B7DBE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B2A5-DEB2-49EF-8633-C0C6299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A27C-087C-44DF-9DFE-7E993FB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1556-5EF1-433C-919B-E427BA2B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474E-D47C-442E-970B-7F1F757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E3CA-C5CD-469C-92A7-AA5CBB7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DCCC-90D2-4CF4-9DF7-05AD58B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AC59-2D93-419A-B826-207BDC5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475F-DEBF-49F6-8ECE-6FB92F6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9557-7D84-4399-A14D-09B33A07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5EAF-E41E-4253-8D49-BC0C1456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47D-D6F1-40BC-99A3-4ADE313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2EF5-F68A-4584-BF7C-B3453191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8CD1-4180-4D4C-80D7-3E73517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D6D1-5CDC-42D2-AF8C-942B9A75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258B-58DC-4A47-84BD-64B3D665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86AE-D26C-451B-BEDD-C9761567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0A76-36A1-49D8-9C07-FCE450D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71F4-8EE4-4E96-AC8D-214967F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3C1B-D446-4669-8636-5D48D73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B736-0F4F-4C2B-AC08-356FA0F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9E4A-101D-4C5C-8153-0C1F006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9F0-6559-49D8-A72A-632C68A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DD5E-F68D-44B6-BAEE-CCB2F00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B815-1374-4031-A8AD-F86EA1D9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3229-D8B7-40EF-A60B-F70282E8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D97-490F-4A29-819E-C5AAB63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7B9-357D-4F99-91BD-C1BAF09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E75-51A6-4AAA-ADCC-8EB66376FA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DA6-0C52-4C99-A7AA-3B5D7EAEB9B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063-0D69-4F14-A89B-4F26AA2A8F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E221-D916-4F73-B079-08915C69A9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BEB-8EDC-41C9-8293-C75F03E3CE7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61B-E9B6-4468-B43D-6BFCA20BB07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aRlFsYmkeY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2520" y="3200400"/>
            <a:ext cx="7077240" cy="244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jeremy.smith\AppData\Local\Microsoft\Windows\Temporary Internet Files\Content.IE5\C21NY5RJ\MC900432618[1].png"/>
          <p:cNvPicPr/>
          <p:nvPr/>
        </p:nvPicPr>
        <p:blipFill>
          <a:blip r:embed="rId4"/>
          <a:stretch/>
        </p:blipFill>
        <p:spPr>
          <a:xfrm>
            <a:off x="4114800" y="914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Users\jeremy.smith\AppData\Local\Microsoft\Windows\Temporary Internet Files\Content.IE5\ULR5AJH0\MC900384040[1].wmf"/>
          <p:cNvPicPr/>
          <p:nvPr/>
        </p:nvPicPr>
        <p:blipFill>
          <a:blip r:embed="rId5"/>
          <a:stretch/>
        </p:blipFill>
        <p:spPr>
          <a:xfrm>
            <a:off x="4495680" y="457200"/>
            <a:ext cx="714600" cy="830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6"/>
          <a:stretch/>
        </p:blipFill>
        <p:spPr>
          <a:xfrm>
            <a:off x="5486400" y="44197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7"/>
          <a:stretch/>
        </p:blipFill>
        <p:spPr>
          <a:xfrm>
            <a:off x="380880" y="4114800"/>
            <a:ext cx="2019600" cy="2266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jeremy.smith\AppData\Local\Microsoft\Windows\Temporary Internet Files\Content.IE5\ULR5AJH0\MC900078722[1].wmf"/>
          <p:cNvPicPr/>
          <p:nvPr/>
        </p:nvPicPr>
        <p:blipFill>
          <a:blip r:embed="rId8"/>
          <a:stretch/>
        </p:blipFill>
        <p:spPr>
          <a:xfrm>
            <a:off x="3505320" y="4419720"/>
            <a:ext cx="12016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Georges Cuvi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’s ideas certainly were not universally accep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vier noted a greater number of extinct species in older str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a “progression” of life on Ea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t he did not see his findings as evidence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478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ree Key Argu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 chain of being is fal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ving things are too complex and dive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extinction in the past is a re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ity of species that had ever existed had gone extin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orrelation of parts makes evolution impossi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imals in the process of change would be less suited for their environment and would become extin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strophic Ge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vier noted the catastrophic events that punctuated Earth’s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each event, new species of plants and animals had aris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what avoided where they had come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omas Malthu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t another key figure in the evolution story before Da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ssay on the Principle of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ally stated that birth rates exceeded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es even more so in na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58000" y="2590920"/>
            <a:ext cx="175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arles Darw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rn in 180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ther was a physician (and evolutionist), mother came from a wealthy fam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825 went to University of Edinburgh to study 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, went to Cambridge to become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ergy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le there, studied natural history, caught the attention of prominent profess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out to serve as a naturalist on the HMS Beag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t many specimens back to London – this gained him resp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inciples of Geolog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y Charles Lyell – converted to uniformitari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posed catastrophism (Cuvi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s of uniformism  coincided with tranformism brought up by Lemar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w many things while on the Beagle that indicated evolution was happe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 next mo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hing. (at least with regards to evolut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chanism was still an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d back to England, received money from his father, and…married his cous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907400" y="5105520"/>
            <a:ext cx="12366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d to Downe House in 184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is where he would compose one of the most ground-breaking and controversial books in history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On the Origin of Species by Means of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veloping Natural S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vately, Darwin was very enthusiastic about Lemarck’s the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it seemed limited to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 key was variation – observed domestic anim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 work by Malthus – thought struggles may apply in nature as 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idea: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focus on struggles within a spe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lay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was ready to publish his findings in 1844, but waited until 185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?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book by a colleague, Robert Chambers outlined his views on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well receiv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s out well for Darwin th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ew Ide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witnessing Thomas Huxley tear apart Chamber’s book, Darwin re-evaluates some of hi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itially theorized evolution was intermittent – abandons th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drops idea of perfect adaptation (the correlation of parts id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ed evolution as two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219800" y="0"/>
            <a:ext cx="1924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ear 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pecies continues to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es diverge off into different species to find other nich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what he saw in the Galapagos, speciation seemed to make the most se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d that natural selection acted as “a thousand tiny wedges, driving evolution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ation to the environment (Lemarck) was th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h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natural selection was th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y 1859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fred Russell Wallace writes letters to Darwin in favour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ds a manuscript – shockingly similar to Darwin’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th release their work in 1859, Darwin gets recogn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, yet again, sparked vigorous debates about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wants no part, Huxley steps in to defend his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s to himself as “Darwin’s Bulldog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fortunately, Darwin dies in 1882, when his work experienced a drop in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eriences a revival in early 1900’s with advent of Mendelian gene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theories combine in what was referred to as the “forging of the modern synthesi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rig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was evolution first discuss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ological record challenged traditional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evidence: Earth’s crust was stratifi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2543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rth is very old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ossil record also showed organisms thought to not be in exist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ose, and the answers were deb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 conclusion: life has existed on Earth for much longer that initially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Jean-Baptiste Lamarc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 evolution gained popularity, question now became,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ow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the soldier-turned-invertebrate taxonom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362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762120"/>
            <a:ext cx="7467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eased numerous papers between 1800 and 1809, summed up i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Zoological Philosoph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180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the change of hear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is sits on a rather large fossil 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scientists speculated that species found in shallow Paris basin now lived in other parts of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t, by Lamarck’s time, inventory of species had gone so far it seemed unlike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inc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ain, Lamarck says, “Nay, n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 clung to notions of benevolent Mother Na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postulated that species had evolved, and set out to determine th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wo-Factor Mechan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arck was a believer in the “great chain of being”  (similar to Aristot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lieved simplest organisms continuously being spontaneously generated (again Aristot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species can be traced back to simple ances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ans, and other “higher” species have just been around long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191360" y="1676520"/>
            <a:ext cx="19526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this does not address how animals change habits (and he believed, form) to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da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476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8:29:25Z</dcterms:created>
  <dc:creator>ED18</dc:creator>
  <dc:description/>
  <dc:language>en-US</dc:language>
  <cp:lastModifiedBy>ED18</cp:lastModifiedBy>
  <dcterms:modified xsi:type="dcterms:W3CDTF">2011-04-20T18:51:53Z</dcterms:modified>
  <cp:revision>2</cp:revision>
  <dc:subject/>
  <dc:title>Theories of Evolution</dc:title>
</cp:coreProperties>
</file>